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EE6-C3A6-45D2-93D3-72209CEB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28F-9D51-48F6-BBCD-B36B9DB1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2BB-B968-4CA7-80AA-94CD5502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930-30B1-4259-A12D-656B5B7F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A579-AC73-4685-9716-DA1412AB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EDA6-4E31-4EA6-84DB-38AD94F4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F4BC-FCDD-468A-A187-F4BF560E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BCD6-A85A-4969-976E-D1AF4ABB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5729-0503-4032-9B78-A89E6EBB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CBE9-79B2-4CA1-8C10-524F27CA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F0F5-E15F-450E-92AA-2BCC7F6D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394-5BC9-43D5-B608-5D22CEA2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1387-C20C-45A7-A80C-B78C3430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400C-B69E-450D-986A-C9FBA0A1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E298-B052-4050-870B-1475337D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0728-9ACC-4E6A-AA41-5D343964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D006-6839-448A-8E8E-C6E6038E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052-67BA-4795-BC92-78BF0AE4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F70-4BE1-4A81-9C31-41CE54AC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0CF-54EA-4BF5-8BD1-A2AF71FE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1FA-8735-446A-B7BE-7FE97663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3DB-F9AE-4A3E-8A1D-01D0428D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963-B782-4F09-BEAA-7243AD98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A23-2CE3-4B98-BC8A-DE525E02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6D25-4807-4ECC-8B2A-289CBE5786C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C5A2-0C53-4B2A-9BA2-BD35115970F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By Alexander Belang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No help this tim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hare your own on my wikispac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90720" y="914400"/>
            <a:ext cx="5790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untry Study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Where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I</a:t>
            </a: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 come fro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come from Europe. I am half Danish and half American. So I will tell you about Denmark (since I come from there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Hans Christian Anders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ans Christian Andersen was a very famous author who was known for his fairy tales. His most famous ones, however, were ‘The Snow Queen, The Ugly Duckling, The Little Mermaid, and the Emperor's Knew Cloth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014800" y="1447920"/>
            <a:ext cx="3848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Hans Christian </a:t>
            </a:r>
            <a:br>
              <a:rPr sz="4400"/>
            </a:b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Andersen </a:t>
            </a:r>
            <a:r>
              <a:rPr b="0" i="1" lang="en-US" sz="4400" spc="-1" strike="noStrike">
                <a:solidFill>
                  <a:srgbClr val="af273e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orn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805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ed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875 (aged 70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om;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nmar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892760" y="1752480"/>
            <a:ext cx="3486240" cy="48006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155560" y="6491160"/>
            <a:ext cx="34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ans Christian Andersen, 1869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Denmark's Clim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nmark experiences a temperate climate. It means that the winters are mild and windy and the summers are coo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2554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Denmark, the happiest place in the worl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n 2006 a survey found Denmark to be the happiest place in the world because of health, education est.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n 2007 the capital (Copenhagen) was ranked the second most livable city in the world by the Monocle Magazine and ranked the happiest nation in the world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314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Where is Denmark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nmark is in Scandinavia. If you on the map you will see where it i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172040" y="1905120"/>
            <a:ext cx="4971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edits;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verything by 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2:25:45Z</dcterms:created>
  <dc:creator>Ken Belanger</dc:creator>
  <dc:description/>
  <dc:language>en-US</dc:language>
  <cp:lastModifiedBy>Ken Belanger</cp:lastModifiedBy>
  <dcterms:modified xsi:type="dcterms:W3CDTF">2007-11-27T13:24:13Z</dcterms:modified>
  <cp:revision>2</cp:revision>
  <dc:subject/>
  <dc:title>Slide 1</dc:title>
</cp:coreProperties>
</file>